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25199975" cy="35999738"/>
  <p:notesSz cx="6713538" cy="9240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714000" cy="924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6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0988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03400" y="-360"/>
            <a:ext cx="290988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2144880" y="692280"/>
            <a:ext cx="2427120" cy="346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r>
              <a:rPr b="0" lang="en-US" sz="16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71040" y="4389120"/>
            <a:ext cx="5372280" cy="41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775360"/>
            <a:ext cx="290988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03400" y="8775360"/>
            <a:ext cx="290988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DC66F-89D4-4B34-8094-BF3424B4C09C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7"/>
          <p:cNvSpPr/>
          <p:nvPr/>
        </p:nvSpPr>
        <p:spPr>
          <a:xfrm>
            <a:off x="3803760" y="8775720"/>
            <a:ext cx="29098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BAB07-165A-4A56-97F3-9AF7575EDC5A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2144880" y="692280"/>
            <a:ext cx="2427120" cy="346536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71040" y="4389120"/>
            <a:ext cx="537228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60000" y="1436400"/>
            <a:ext cx="22679640" cy="60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60000" y="8424000"/>
            <a:ext cx="2267964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76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60000" y="19329840"/>
            <a:ext cx="2267964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76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60000" y="1436400"/>
            <a:ext cx="22679640" cy="60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0000" y="8424000"/>
            <a:ext cx="1106748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76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881160" y="8424000"/>
            <a:ext cx="1106748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76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0000" y="19329840"/>
            <a:ext cx="1106748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76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12881160" y="19329840"/>
            <a:ext cx="1106748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76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60000" y="1436400"/>
            <a:ext cx="22679640" cy="60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60000" y="8424000"/>
            <a:ext cx="730260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76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8928000" y="8424000"/>
            <a:ext cx="730260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76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6596360" y="8424000"/>
            <a:ext cx="730260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76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260000" y="19329840"/>
            <a:ext cx="730260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76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8928000" y="19329840"/>
            <a:ext cx="730260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76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16596360" y="19329840"/>
            <a:ext cx="730260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76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60000" y="1436400"/>
            <a:ext cx="22679640" cy="60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260000" y="8424000"/>
            <a:ext cx="22679640" cy="208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76"/>
              </a:spcBef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60000" y="1436400"/>
            <a:ext cx="22679640" cy="60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260000" y="8424000"/>
            <a:ext cx="22679640" cy="208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76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60000" y="1436400"/>
            <a:ext cx="22679640" cy="60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60000" y="8424000"/>
            <a:ext cx="11067480" cy="208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76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12881160" y="8424000"/>
            <a:ext cx="11067480" cy="208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76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60000" y="1436400"/>
            <a:ext cx="22679640" cy="60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60000" y="1436400"/>
            <a:ext cx="22679640" cy="278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76"/>
              </a:spcBef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60000" y="1436400"/>
            <a:ext cx="22679640" cy="60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0000" y="8424000"/>
            <a:ext cx="1106748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76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12881160" y="8424000"/>
            <a:ext cx="11067480" cy="208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76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260000" y="19329840"/>
            <a:ext cx="1106748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76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60000" y="1436400"/>
            <a:ext cx="22679640" cy="60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60000" y="8424000"/>
            <a:ext cx="11067480" cy="208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76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12881160" y="8424000"/>
            <a:ext cx="1106748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76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881160" y="19329840"/>
            <a:ext cx="1106748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76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60000" y="1436400"/>
            <a:ext cx="22679640" cy="60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60000" y="8424000"/>
            <a:ext cx="1106748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76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12881160" y="8424000"/>
            <a:ext cx="1106748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76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60000" y="19329840"/>
            <a:ext cx="2267964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76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13"/>
          <p:cNvGraphicFramePr/>
          <p:nvPr/>
        </p:nvGraphicFramePr>
        <p:xfrm>
          <a:off x="19061280" y="35448840"/>
          <a:ext cx="5175000" cy="174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Object 1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061280" y="35448840"/>
                    <a:ext cx="5175000" cy="17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34"/>
          <p:cNvGrpSpPr/>
          <p:nvPr/>
        </p:nvGrpSpPr>
        <p:grpSpPr>
          <a:xfrm>
            <a:off x="623880" y="4230720"/>
            <a:ext cx="24133320" cy="31462560"/>
            <a:chOff x="623880" y="4230720"/>
            <a:chExt cx="24133320" cy="31462560"/>
          </a:xfrm>
        </p:grpSpPr>
        <p:grpSp>
          <p:nvGrpSpPr>
            <p:cNvPr id="46" name="Group 25"/>
            <p:cNvGrpSpPr/>
            <p:nvPr/>
          </p:nvGrpSpPr>
          <p:grpSpPr>
            <a:xfrm>
              <a:off x="623880" y="11037960"/>
              <a:ext cx="24133320" cy="24655320"/>
              <a:chOff x="623880" y="11037960"/>
              <a:chExt cx="24133320" cy="24655320"/>
            </a:xfrm>
          </p:grpSpPr>
          <p:sp>
            <p:nvSpPr>
              <p:cNvPr id="47" name="AutoShape 50"/>
              <p:cNvSpPr/>
              <p:nvPr/>
            </p:nvSpPr>
            <p:spPr>
              <a:xfrm>
                <a:off x="623880" y="11089440"/>
                <a:ext cx="11857680" cy="24432120"/>
              </a:xfrm>
              <a:custGeom>
                <a:avLst/>
                <a:gdLst>
                  <a:gd name="textAreaLeft" fmla="*/ 243000 w 11857680"/>
                  <a:gd name="textAreaRight" fmla="*/ 11614680 w 11857680"/>
                  <a:gd name="textAreaTop" fmla="*/ 243000 h 24432120"/>
                  <a:gd name="textAreaBottom" fmla="*/ 24189120 h 24432120"/>
                </a:gdLst>
                <a:ahLst/>
                <a:rect l="textAreaLeft" t="textAreaTop" r="textAreaRight" b="textAreaBottom"/>
                <a:pathLst>
                  <a:path w="21600" h="44505">
                    <a:moveTo>
                      <a:pt x="1512" y="0"/>
                    </a:moveTo>
                    <a:arcTo wR="1512" hR="1512" stAng="16200000" swAng="-5400000"/>
                    <a:lnTo>
                      <a:pt x="0" y="42993"/>
                    </a:lnTo>
                    <a:arcTo wR="1512" hR="1512" stAng="10800000" swAng="-5400000"/>
                    <a:lnTo>
                      <a:pt x="20088" y="44505"/>
                    </a:lnTo>
                    <a:arcTo wR="1512" hR="1512" stAng="5400000" swAng="-5400000"/>
                    <a:lnTo>
                      <a:pt x="21600" y="1512"/>
                    </a:lnTo>
                    <a:arcTo wR="1512" hR="1512" stAng="0" swAng="-5400000"/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AutoShape 4"/>
              <p:cNvSpPr/>
              <p:nvPr/>
            </p:nvSpPr>
            <p:spPr>
              <a:xfrm>
                <a:off x="12899520" y="11037960"/>
                <a:ext cx="11857680" cy="24655320"/>
              </a:xfrm>
              <a:custGeom>
                <a:avLst/>
                <a:gdLst>
                  <a:gd name="textAreaLeft" fmla="*/ 243000 w 11857680"/>
                  <a:gd name="textAreaRight" fmla="*/ 11614680 w 11857680"/>
                  <a:gd name="textAreaTop" fmla="*/ 243000 h 24655320"/>
                  <a:gd name="textAreaBottom" fmla="*/ 24412320 h 24655320"/>
                </a:gdLst>
                <a:ahLst/>
                <a:rect l="textAreaLeft" t="textAreaTop" r="textAreaRight" b="textAreaBottom"/>
                <a:pathLst>
                  <a:path w="21600" h="44912">
                    <a:moveTo>
                      <a:pt x="1512" y="0"/>
                    </a:moveTo>
                    <a:arcTo wR="1512" hR="1512" stAng="16200000" swAng="-5400000"/>
                    <a:lnTo>
                      <a:pt x="0" y="43400"/>
                    </a:lnTo>
                    <a:arcTo wR="1512" hR="1512" stAng="10800000" swAng="-5400000"/>
                    <a:lnTo>
                      <a:pt x="20088" y="44912"/>
                    </a:lnTo>
                    <a:arcTo wR="1512" hR="1512" stAng="5400000" swAng="-5400000"/>
                    <a:lnTo>
                      <a:pt x="21600" y="1512"/>
                    </a:lnTo>
                    <a:arcTo wR="1512" hR="1512" stAng="0" swAng="-5400000"/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" name="Rounded Rectangle 12"/>
            <p:cNvSpPr/>
            <p:nvPr/>
          </p:nvSpPr>
          <p:spPr>
            <a:xfrm>
              <a:off x="2360160" y="4230720"/>
              <a:ext cx="20689560" cy="6496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3497400"/>
                  <a:tab algn="l" pos="6994440"/>
                  <a:tab algn="l" pos="104918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3497400"/>
                  <a:tab algn="l" pos="6994440"/>
                  <a:tab algn="l" pos="10491840"/>
                </a:tabLst>
              </a:pPr>
              <a:r>
                <a:rPr b="1" lang="fa-IR" sz="4000" spc="-1" strike="noStrike">
                  <a:solidFill>
                    <a:srgbClr val="000000"/>
                  </a:solidFill>
                  <a:latin typeface="Arial"/>
                  <a:ea typeface="0 Titr Bold"/>
                </a:rPr>
                <a:t>(</a:t>
              </a:r>
              <a:r>
                <a:rPr b="1" lang="ar-SA" sz="4000" spc="-1" strike="noStrike">
                  <a:solidFill>
                    <a:srgbClr val="000000"/>
                  </a:solidFill>
                  <a:latin typeface="Arial"/>
                  <a:cs typeface="0 Titr Bold"/>
                </a:rPr>
                <a:t>عنوان مقاله </a:t>
              </a:r>
              <a:r>
                <a:rPr b="1" lang="fa-IR" sz="4000" spc="-1" strike="noStrike">
                  <a:solidFill>
                    <a:srgbClr val="000000"/>
                  </a:solidFill>
                  <a:latin typeface="Arial"/>
                  <a:cs typeface="0 Titr Bold"/>
                </a:rPr>
                <a:t>به صورت </a:t>
              </a:r>
              <a:r>
                <a:rPr b="1" lang="ar-SA" sz="4000" spc="-1" strike="noStrike">
                  <a:solidFill>
                    <a:srgbClr val="000000"/>
                  </a:solidFill>
                  <a:latin typeface="Arial"/>
                  <a:cs typeface="0 Titr Bold"/>
                </a:rPr>
                <a:t>تك­فاصله </a:t>
              </a:r>
              <a:r>
                <a:rPr b="1" lang="fa-IR" sz="4000" spc="-1" strike="noStrike">
                  <a:solidFill>
                    <a:srgbClr val="000000"/>
                  </a:solidFill>
                  <a:latin typeface="Arial"/>
                  <a:cs typeface="0 Titr Bold"/>
                </a:rPr>
                <a:t>با </a:t>
              </a:r>
              <a:r>
                <a:rPr b="1" lang="ar-SA" sz="4000" spc="-1" strike="noStrike">
                  <a:solidFill>
                    <a:srgbClr val="000000"/>
                  </a:solidFill>
                  <a:latin typeface="Arial"/>
                  <a:cs typeface="0 Titr Bold"/>
                </a:rPr>
                <a:t>قلم </a:t>
              </a:r>
              <a:r>
                <a:rPr b="1" lang="fa-IR" sz="4000" spc="-1" strike="noStrike">
                  <a:solidFill>
                    <a:srgbClr val="000000"/>
                  </a:solidFill>
                  <a:latin typeface="Arial"/>
                  <a:cs typeface="0 Titr Bold"/>
                </a:rPr>
                <a:t>تیتر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  <a:ea typeface="0 Titr Bold"/>
                </a:rPr>
                <a:t>pt</a:t>
              </a:r>
              <a:r>
                <a:rPr b="1" lang="en-US" sz="4000" spc="-1" strike="noStrike">
                  <a:solidFill>
                    <a:srgbClr val="000000"/>
                  </a:solidFill>
                  <a:latin typeface="Arial"/>
                  <a:ea typeface="0 Titr Bold"/>
                </a:rPr>
                <a:t>. </a:t>
              </a:r>
              <a:r>
                <a:rPr b="1" lang="ar-SA" sz="4000" spc="-1" strike="noStrike">
                  <a:solidFill>
                    <a:srgbClr val="000000"/>
                  </a:solidFill>
                  <a:latin typeface="Arial"/>
                  <a:ea typeface="0 Titr Bold"/>
                </a:rPr>
                <a:t>18</a:t>
              </a:r>
              <a:r>
                <a:rPr b="1" lang="ar-SA" sz="4000" spc="-1" strike="noStrike">
                  <a:solidFill>
                    <a:srgbClr val="000000"/>
                  </a:solidFill>
                  <a:latin typeface="Arial"/>
                  <a:ea typeface="0 Titr Bold"/>
                </a:rPr>
                <a:t> پررنگ)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3497400"/>
                  <a:tab algn="l" pos="6994440"/>
                  <a:tab algn="l" pos="10491840"/>
                </a:tabLst>
              </a:pPr>
              <a:r>
                <a:rPr b="1" lang="fa-IR" sz="4000" spc="-1" strike="noStrike">
                  <a:solidFill>
                    <a:srgbClr val="000000"/>
                  </a:solidFill>
                  <a:latin typeface="Arial"/>
                  <a:ea typeface="0 Titr Bold"/>
                </a:rPr>
                <a:t>----- يک سطر فاصله (تیتر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  <a:ea typeface="0 Titr Bold"/>
                </a:rPr>
                <a:t>pt.</a:t>
              </a:r>
              <a:r>
                <a:rPr b="1" lang="fa-IR" sz="4000" spc="-1" strike="noStrike">
                  <a:solidFill>
                    <a:srgbClr val="000000"/>
                  </a:solidFill>
                  <a:latin typeface="Arial"/>
                  <a:ea typeface="0 Titr Bold"/>
                </a:rPr>
                <a:t> 18</a:t>
              </a:r>
              <a:r>
                <a:rPr b="1" lang="fa-IR" sz="4000" spc="-1" strike="noStrike">
                  <a:solidFill>
                    <a:srgbClr val="000000"/>
                  </a:solidFill>
                  <a:latin typeface="Arial"/>
                  <a:ea typeface="0 Titr Bold"/>
                </a:rPr>
                <a:t> پررنگ) -----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3497400"/>
                  <a:tab algn="l" pos="6994440"/>
                  <a:tab algn="l" pos="10491840"/>
                </a:tabLst>
              </a:pPr>
              <a:r>
                <a:rPr b="1" lang="ar-SA" sz="4000" spc="-1" strike="noStrike">
                  <a:solidFill>
                    <a:srgbClr val="000000"/>
                  </a:solidFill>
                  <a:latin typeface="Arial"/>
                  <a:cs typeface="B Nazanin"/>
                </a:rPr>
                <a:t>نام و نام خانوادگي نويسنده اول، نويسنده دوم</a:t>
              </a:r>
              <a:r>
                <a:rPr b="1" lang="fa-IR" sz="4000" spc="-1" strike="noStrike">
                  <a:solidFill>
                    <a:srgbClr val="000000"/>
                  </a:solidFill>
                  <a:latin typeface="Arial"/>
                  <a:ea typeface="B Nazanin"/>
                </a:rPr>
                <a:t> و...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3497400"/>
                  <a:tab algn="l" pos="6994440"/>
                  <a:tab algn="l" pos="10491840"/>
                </a:tabLst>
              </a:pPr>
              <a:r>
                <a:rPr b="0" i="1" lang="fa-IR" sz="4000" spc="-1" strike="noStrike">
                  <a:solidFill>
                    <a:srgbClr val="000000"/>
                  </a:solidFill>
                  <a:latin typeface="Arial"/>
                  <a:cs typeface="B Nazanin"/>
                </a:rPr>
                <a:t>درجه علمي (يا سمت كاري)، </a:t>
              </a:r>
              <a:r>
                <a:rPr b="0" i="1" lang="ar-SA" sz="4000" spc="-1" strike="noStrike">
                  <a:solidFill>
                    <a:srgbClr val="000000"/>
                  </a:solidFill>
                  <a:latin typeface="Arial"/>
                  <a:cs typeface="B Nazanin"/>
                </a:rPr>
                <a:t>محل كار و آدرس كوتاه نويسنده اول</a:t>
              </a:r>
              <a:r>
                <a:rPr b="0" i="1" lang="fa-IR" sz="4000" spc="-1" strike="noStrike">
                  <a:solidFill>
                    <a:srgbClr val="000000"/>
                  </a:solidFill>
                  <a:latin typeface="Arial"/>
                  <a:ea typeface="B Nazanin"/>
                </a:rPr>
                <a:t> </a:t>
              </a:r>
              <a:r>
                <a:rPr b="0" i="1" lang="ar-SA" sz="4000" spc="-1" strike="noStrike">
                  <a:solidFill>
                    <a:srgbClr val="000000"/>
                  </a:solidFill>
                  <a:latin typeface="Arial"/>
                  <a:ea typeface="B Nazanin"/>
                </a:rPr>
                <a:t>(نازنين </a:t>
              </a:r>
              <a:r>
                <a:rPr b="0" i="1" lang="en-US" sz="4000" spc="-1" strike="noStrike">
                  <a:solidFill>
                    <a:srgbClr val="000000"/>
                  </a:solidFill>
                  <a:latin typeface="Arial"/>
                  <a:ea typeface="B Nazanin"/>
                </a:rPr>
                <a:t>pt. </a:t>
              </a:r>
              <a:r>
                <a:rPr b="0" i="1" lang="ar-SA" sz="4000" spc="-1" strike="noStrike">
                  <a:solidFill>
                    <a:srgbClr val="000000"/>
                  </a:solidFill>
                  <a:latin typeface="Arial"/>
                  <a:ea typeface="B Nazanin"/>
                </a:rPr>
                <a:t>1</a:t>
              </a:r>
              <a:r>
                <a:rPr b="0" i="1" lang="fa-IR" sz="4000" spc="-1" strike="noStrike">
                  <a:solidFill>
                    <a:srgbClr val="000000"/>
                  </a:solidFill>
                  <a:latin typeface="Arial"/>
                  <a:ea typeface="B Nazanin"/>
                </a:rPr>
                <a:t>0</a:t>
              </a:r>
              <a:r>
                <a:rPr b="0" i="1" lang="ar-SA" sz="4000" spc="-1" strike="noStrike">
                  <a:solidFill>
                    <a:srgbClr val="000000"/>
                  </a:solidFill>
                  <a:latin typeface="Arial"/>
                  <a:ea typeface="B Nazanin"/>
                </a:rPr>
                <a:t> ايتاليك)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3497400"/>
                  <a:tab algn="l" pos="6994440"/>
                  <a:tab algn="l" pos="10491840"/>
                </a:tabLst>
              </a:pPr>
              <a:r>
                <a:rPr b="0" i="1" lang="ar-SA" sz="4000" spc="-1" strike="noStrike">
                  <a:solidFill>
                    <a:srgbClr val="000000"/>
                  </a:solidFill>
                  <a:latin typeface="Arial"/>
                  <a:cs typeface="B Nazanin"/>
                </a:rPr>
                <a:t>آدرس پست الكترونيك نويسنده اول  </a:t>
              </a:r>
              <a:r>
                <a:rPr b="0" i="1" lang="en-US" sz="4000" spc="-1" strike="noStrike">
                  <a:solidFill>
                    <a:srgbClr val="000000"/>
                  </a:solidFill>
                  <a:latin typeface="Arial"/>
                  <a:ea typeface="B Nazanin"/>
                </a:rPr>
                <a:t>(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  <a:ea typeface="B Nazanin"/>
                </a:rPr>
                <a:t>Times New Roman</a:t>
              </a:r>
              <a:r>
                <a:rPr b="0" i="1" lang="en-US" sz="4000" spc="-1" strike="noStrike">
                  <a:solidFill>
                    <a:srgbClr val="000000"/>
                  </a:solidFill>
                  <a:latin typeface="Arial"/>
                  <a:ea typeface="B Nazanin"/>
                </a:rPr>
                <a:t> 10 pt. Italic</a:t>
              </a:r>
              <a:r>
                <a:rPr b="0" i="1" lang="en-US" sz="4000" spc="-1" strike="noStrike">
                  <a:solidFill>
                    <a:srgbClr val="000000"/>
                  </a:solidFill>
                  <a:latin typeface="Arial"/>
                  <a:ea typeface="B Nazanin"/>
                </a:rPr>
                <a:t>)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3497400"/>
                  <a:tab algn="l" pos="6994440"/>
                  <a:tab algn="l" pos="10491840"/>
                </a:tabLst>
              </a:pPr>
              <a:r>
                <a:rPr b="0" i="1" lang="fa-IR" sz="4000" spc="-1" strike="noStrike">
                  <a:solidFill>
                    <a:srgbClr val="000000"/>
                  </a:solidFill>
                  <a:latin typeface="Arial"/>
                  <a:cs typeface="B Nazanin"/>
                </a:rPr>
                <a:t>درجه علمي (يا سمت كاري)، </a:t>
              </a:r>
              <a:r>
                <a:rPr b="0" i="1" lang="ar-SA" sz="4000" spc="-1" strike="noStrike">
                  <a:solidFill>
                    <a:srgbClr val="000000"/>
                  </a:solidFill>
                  <a:latin typeface="Arial"/>
                  <a:cs typeface="B Nazanin"/>
                </a:rPr>
                <a:t>محل كار و آدرس كوتاه نويسنده </a:t>
              </a:r>
              <a:r>
                <a:rPr b="0" i="1" lang="fa-IR" sz="4000" spc="-1" strike="noStrike">
                  <a:solidFill>
                    <a:srgbClr val="000000"/>
                  </a:solidFill>
                  <a:latin typeface="Arial"/>
                  <a:cs typeface="B Nazanin"/>
                </a:rPr>
                <a:t>دوم </a:t>
              </a:r>
              <a:r>
                <a:rPr b="0" i="1" lang="ar-SA" sz="4000" spc="-1" strike="noStrike">
                  <a:solidFill>
                    <a:srgbClr val="000000"/>
                  </a:solidFill>
                  <a:latin typeface="Arial"/>
                  <a:ea typeface="B Nazanin"/>
                </a:rPr>
                <a:t>(نازنين </a:t>
              </a:r>
              <a:r>
                <a:rPr b="0" i="1" lang="en-US" sz="4000" spc="-1" strike="noStrike">
                  <a:solidFill>
                    <a:srgbClr val="000000"/>
                  </a:solidFill>
                  <a:latin typeface="Arial"/>
                  <a:ea typeface="B Nazanin"/>
                </a:rPr>
                <a:t>pt. </a:t>
              </a:r>
              <a:r>
                <a:rPr b="0" i="1" lang="ar-SA" sz="4000" spc="-1" strike="noStrike">
                  <a:solidFill>
                    <a:srgbClr val="000000"/>
                  </a:solidFill>
                  <a:latin typeface="Arial"/>
                  <a:ea typeface="B Nazanin"/>
                </a:rPr>
                <a:t>1</a:t>
              </a:r>
              <a:r>
                <a:rPr b="0" i="1" lang="fa-IR" sz="4000" spc="-1" strike="noStrike">
                  <a:solidFill>
                    <a:srgbClr val="000000"/>
                  </a:solidFill>
                  <a:latin typeface="Arial"/>
                  <a:ea typeface="B Nazanin"/>
                </a:rPr>
                <a:t>0</a:t>
              </a:r>
              <a:r>
                <a:rPr b="0" i="1" lang="ar-SA" sz="4000" spc="-1" strike="noStrike">
                  <a:solidFill>
                    <a:srgbClr val="000000"/>
                  </a:solidFill>
                  <a:latin typeface="Arial"/>
                  <a:ea typeface="B Nazanin"/>
                </a:rPr>
                <a:t> ايتاليك)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3497400"/>
                  <a:tab algn="l" pos="6994440"/>
                  <a:tab algn="l" pos="10491840"/>
                </a:tabLst>
              </a:pPr>
              <a:r>
                <a:rPr b="0" i="1" lang="ar-SA" sz="4000" spc="-1" strike="noStrike">
                  <a:solidFill>
                    <a:srgbClr val="000000"/>
                  </a:solidFill>
                  <a:latin typeface="Arial"/>
                  <a:cs typeface="B Nazanin"/>
                </a:rPr>
                <a:t>آدرس پست الكترونيك نويسنده </a:t>
              </a:r>
              <a:r>
                <a:rPr b="0" i="1" lang="fa-IR" sz="4000" spc="-1" strike="noStrike">
                  <a:solidFill>
                    <a:srgbClr val="000000"/>
                  </a:solidFill>
                  <a:latin typeface="Arial"/>
                  <a:cs typeface="B Nazanin"/>
                </a:rPr>
                <a:t>دوم </a:t>
              </a:r>
              <a:r>
                <a:rPr b="0" i="1" lang="en-US" sz="4000" spc="-1" strike="noStrike">
                  <a:solidFill>
                    <a:srgbClr val="000000"/>
                  </a:solidFill>
                  <a:latin typeface="Arial"/>
                  <a:ea typeface="B Nazanin"/>
                </a:rPr>
                <a:t>(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  <a:ea typeface="B Nazanin"/>
                </a:rPr>
                <a:t>Times New Roman</a:t>
              </a:r>
              <a:r>
                <a:rPr b="0" i="1" lang="en-US" sz="4000" spc="-1" strike="noStrike">
                  <a:solidFill>
                    <a:srgbClr val="000000"/>
                  </a:solidFill>
                  <a:latin typeface="Arial"/>
                  <a:ea typeface="B Nazanin"/>
                </a:rPr>
                <a:t> 10 pt. Italic</a:t>
              </a:r>
              <a:r>
                <a:rPr b="0" i="1" lang="en-US" sz="4000" spc="-1" strike="noStrike">
                  <a:solidFill>
                    <a:srgbClr val="000000"/>
                  </a:solidFill>
                  <a:latin typeface="Arial"/>
                  <a:ea typeface="B Nazanin"/>
                </a:rPr>
                <a:t>)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Text Box 42"/>
          <p:cNvSpPr/>
          <p:nvPr/>
        </p:nvSpPr>
        <p:spPr>
          <a:xfrm>
            <a:off x="13839840" y="11293560"/>
            <a:ext cx="10287000" cy="16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spAutoFit/>
          </a:bodyPr>
          <a:p>
            <a:pPr algn="just" rtl="1">
              <a:tabLst>
                <a:tab algn="l" pos="0"/>
                <a:tab algn="l" pos="3497400"/>
                <a:tab algn="l" pos="6994440"/>
                <a:tab algn="l" pos="10491840"/>
              </a:tabLst>
            </a:pPr>
            <a:r>
              <a:rPr b="1" lang="fa-IR" sz="4000" spc="-1" strike="noStrike">
                <a:solidFill>
                  <a:srgbClr val="000000"/>
                </a:solidFill>
                <a:latin typeface="Arial"/>
                <a:cs typeface="B Titr"/>
              </a:rPr>
              <a:t>چکید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spcBef>
                <a:spcPts val="2500"/>
              </a:spcBef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0"/>
          <p:cNvSpPr/>
          <p:nvPr/>
        </p:nvSpPr>
        <p:spPr>
          <a:xfrm>
            <a:off x="1627200" y="11514240"/>
            <a:ext cx="10458360" cy="16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spAutoFit/>
          </a:bodyPr>
          <a:p>
            <a:pPr algn="just" rtl="1">
              <a:spcBef>
                <a:spcPts val="2500"/>
              </a:spcBef>
              <a:tabLst>
                <a:tab algn="l" pos="0"/>
                <a:tab algn="l" pos="3497400"/>
                <a:tab algn="l" pos="6994440"/>
                <a:tab algn="l" pos="10491840"/>
              </a:tabLst>
            </a:pPr>
            <a:r>
              <a:rPr b="1" lang="fa-IR" sz="4000" spc="-1" strike="noStrike">
                <a:solidFill>
                  <a:srgbClr val="000000"/>
                </a:solidFill>
                <a:latin typeface="Arial"/>
                <a:cs typeface="B Titr"/>
              </a:rPr>
              <a:t>بحث و نتیجه گیر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0"/>
          <p:cNvSpPr/>
          <p:nvPr/>
        </p:nvSpPr>
        <p:spPr>
          <a:xfrm>
            <a:off x="1494000" y="27490680"/>
            <a:ext cx="10458360" cy="6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spAutoFit/>
          </a:bodyPr>
          <a:p>
            <a:pPr algn="just" rtl="1">
              <a:spcBef>
                <a:spcPts val="1250"/>
              </a:spcBef>
              <a:tabLst>
                <a:tab algn="l" pos="0"/>
                <a:tab algn="l" pos="3497400"/>
                <a:tab algn="l" pos="6994440"/>
                <a:tab algn="l" pos="10491840"/>
              </a:tabLst>
            </a:pPr>
            <a:r>
              <a:rPr b="1" lang="fa-IR" sz="4000" spc="-1" strike="noStrike">
                <a:solidFill>
                  <a:srgbClr val="000000"/>
                </a:solidFill>
                <a:latin typeface="Arial"/>
                <a:cs typeface="B Titr"/>
              </a:rPr>
              <a:t>منابع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Nazani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0"/>
          <p:cNvSpPr/>
          <p:nvPr/>
        </p:nvSpPr>
        <p:spPr>
          <a:xfrm>
            <a:off x="13620600" y="19335600"/>
            <a:ext cx="10458720" cy="98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spAutoFit/>
          </a:bodyPr>
          <a:p>
            <a:pPr algn="just" rtl="1">
              <a:lnSpc>
                <a:spcPct val="150000"/>
              </a:lnSpc>
              <a:spcBef>
                <a:spcPts val="2500"/>
              </a:spcBef>
              <a:tabLst>
                <a:tab algn="l" pos="0"/>
                <a:tab algn="l" pos="3497400"/>
                <a:tab algn="l" pos="6994440"/>
                <a:tab algn="l" pos="10491840"/>
              </a:tabLst>
            </a:pPr>
            <a:r>
              <a:rPr b="1" lang="fa-IR" sz="4000" spc="-1" strike="noStrike">
                <a:solidFill>
                  <a:srgbClr val="000000"/>
                </a:solidFill>
                <a:latin typeface="Arial"/>
                <a:cs typeface="B Titr"/>
              </a:rPr>
              <a:t>مقدمه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" descr=""/>
          <p:cNvPicPr/>
          <p:nvPr/>
        </p:nvPicPr>
        <p:blipFill>
          <a:blip r:embed="rId1"/>
          <a:stretch/>
        </p:blipFill>
        <p:spPr>
          <a:xfrm>
            <a:off x="1047600" y="114480"/>
            <a:ext cx="22920480" cy="3860640"/>
          </a:xfrm>
          <a:prstGeom prst="rect">
            <a:avLst/>
          </a:prstGeom>
          <a:ln w="0">
            <a:noFill/>
          </a:ln>
        </p:spPr>
      </p:pic>
      <p:sp>
        <p:nvSpPr>
          <p:cNvPr id="55" name="Text Box 10"/>
          <p:cNvSpPr/>
          <p:nvPr/>
        </p:nvSpPr>
        <p:spPr>
          <a:xfrm>
            <a:off x="13839840" y="26882640"/>
            <a:ext cx="10458360" cy="98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spAutoFit/>
          </a:bodyPr>
          <a:p>
            <a:pPr algn="just" rtl="1">
              <a:lnSpc>
                <a:spcPct val="150000"/>
              </a:lnSpc>
              <a:spcBef>
                <a:spcPts val="2500"/>
              </a:spcBef>
              <a:tabLst>
                <a:tab algn="l" pos="0"/>
                <a:tab algn="l" pos="3497400"/>
                <a:tab algn="l" pos="6994440"/>
                <a:tab algn="l" pos="10491840"/>
              </a:tabLst>
            </a:pPr>
            <a:r>
              <a:rPr b="1" lang="fa-IR" sz="4000" spc="-1" strike="noStrike">
                <a:solidFill>
                  <a:srgbClr val="000000"/>
                </a:solidFill>
                <a:latin typeface="Arial"/>
                <a:cs typeface="B Titr"/>
              </a:rPr>
              <a:t>روش و یافته ها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4T00:20:37Z</dcterms:created>
  <dc:creator>www.toil.ir</dc:creator>
  <dc:description/>
  <dc:language>en-US</dc:language>
  <cp:lastModifiedBy>Pajohesh</cp:lastModifiedBy>
  <dcterms:modified xsi:type="dcterms:W3CDTF">2017-05-17T12:12:20Z</dcterms:modified>
  <cp:revision>86</cp:revision>
  <dc:subject/>
  <dc:title>70x100 cm vertical poster template</dc:title>
</cp:coreProperties>
</file>