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5199975" cy="35999738"/>
  <p:notesSz cx="67135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140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03400" y="-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144880" y="692280"/>
            <a:ext cx="242712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1040" y="4389120"/>
            <a:ext cx="537228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775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03400" y="8775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9392-C8C7-4AF7-A72E-36F36088F7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03760" y="8775720"/>
            <a:ext cx="2909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D4FF-A6FC-4C76-945E-74E45CBDE53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144880" y="692280"/>
            <a:ext cx="2427120" cy="34653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71040" y="4389120"/>
            <a:ext cx="53722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2267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0000" y="19329840"/>
            <a:ext cx="2267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8116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0000" y="1932984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2881160" y="1932984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928000" y="842400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596360" y="842400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0000" y="1932984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8928000" y="1932984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6596360" y="19329840"/>
            <a:ext cx="730260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0000" y="8424000"/>
            <a:ext cx="226796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76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2267964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1106748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2881160" y="8424000"/>
            <a:ext cx="1106748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0000" y="1436400"/>
            <a:ext cx="22679640" cy="278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76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2881160" y="8424000"/>
            <a:ext cx="1106748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0000" y="1932984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11067480" cy="208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288116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881160" y="1932984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0000" y="1436400"/>
            <a:ext cx="22679640" cy="60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00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2881160" y="8424000"/>
            <a:ext cx="1106748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0000" y="19329840"/>
            <a:ext cx="22679640" cy="99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76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3"/>
          <p:cNvGraphicFramePr/>
          <p:nvPr/>
        </p:nvGraphicFramePr>
        <p:xfrm>
          <a:off x="19061280" y="35448840"/>
          <a:ext cx="5175000" cy="1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1280" y="35448840"/>
                    <a:ext cx="517500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34"/>
          <p:cNvGrpSpPr/>
          <p:nvPr/>
        </p:nvGrpSpPr>
        <p:grpSpPr>
          <a:xfrm>
            <a:off x="623880" y="4230720"/>
            <a:ext cx="24133320" cy="31462560"/>
            <a:chOff x="623880" y="4230720"/>
            <a:chExt cx="24133320" cy="31462560"/>
          </a:xfrm>
        </p:grpSpPr>
        <p:grpSp>
          <p:nvGrpSpPr>
            <p:cNvPr id="46" name="Group 25"/>
            <p:cNvGrpSpPr/>
            <p:nvPr/>
          </p:nvGrpSpPr>
          <p:grpSpPr>
            <a:xfrm>
              <a:off x="623880" y="11037960"/>
              <a:ext cx="24133320" cy="24655320"/>
              <a:chOff x="623880" y="11037960"/>
              <a:chExt cx="24133320" cy="24655320"/>
            </a:xfrm>
          </p:grpSpPr>
          <p:sp>
            <p:nvSpPr>
              <p:cNvPr id="47" name="AutoShape 50"/>
              <p:cNvSpPr/>
              <p:nvPr/>
            </p:nvSpPr>
            <p:spPr>
              <a:xfrm>
                <a:off x="623880" y="11089440"/>
                <a:ext cx="11857680" cy="24432120"/>
              </a:xfrm>
              <a:custGeom>
                <a:avLst/>
                <a:gdLst>
                  <a:gd name="textAreaLeft" fmla="*/ 243000 w 11857680"/>
                  <a:gd name="textAreaRight" fmla="*/ 11614680 w 11857680"/>
                  <a:gd name="textAreaTop" fmla="*/ 243000 h 24432120"/>
                  <a:gd name="textAreaBottom" fmla="*/ 24189120 h 24432120"/>
                </a:gdLst>
                <a:ahLst/>
                <a:rect l="textAreaLeft" t="textAreaTop" r="textAreaRight" b="textAreaBottom"/>
                <a:pathLst>
                  <a:path w="21600" h="44505">
                    <a:moveTo>
                      <a:pt x="1512" y="0"/>
                    </a:moveTo>
                    <a:arcTo wR="1512" hR="1512" stAng="16200000" swAng="-5400000"/>
                    <a:lnTo>
                      <a:pt x="0" y="42993"/>
                    </a:lnTo>
                    <a:arcTo wR="1512" hR="1512" stAng="10800000" swAng="-5400000"/>
                    <a:lnTo>
                      <a:pt x="20088" y="44505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AutoShape 4"/>
              <p:cNvSpPr/>
              <p:nvPr/>
            </p:nvSpPr>
            <p:spPr>
              <a:xfrm>
                <a:off x="12899520" y="11037960"/>
                <a:ext cx="11857680" cy="24655320"/>
              </a:xfrm>
              <a:custGeom>
                <a:avLst/>
                <a:gdLst>
                  <a:gd name="textAreaLeft" fmla="*/ 243000 w 11857680"/>
                  <a:gd name="textAreaRight" fmla="*/ 11614680 w 11857680"/>
                  <a:gd name="textAreaTop" fmla="*/ 243000 h 24655320"/>
                  <a:gd name="textAreaBottom" fmla="*/ 24412320 h 24655320"/>
                </a:gdLst>
                <a:ahLst/>
                <a:rect l="textAreaLeft" t="textAreaTop" r="textAreaRight" b="textAreaBottom"/>
                <a:pathLst>
                  <a:path w="21600" h="44912">
                    <a:moveTo>
                      <a:pt x="1512" y="0"/>
                    </a:moveTo>
                    <a:arcTo wR="1512" hR="1512" stAng="16200000" swAng="-5400000"/>
                    <a:lnTo>
                      <a:pt x="0" y="43400"/>
                    </a:lnTo>
                    <a:arcTo wR="1512" hR="1512" stAng="10800000" swAng="-5400000"/>
                    <a:lnTo>
                      <a:pt x="20088" y="44912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Rounded Rectangle 12"/>
            <p:cNvSpPr/>
            <p:nvPr/>
          </p:nvSpPr>
          <p:spPr>
            <a:xfrm>
              <a:off x="2360160" y="4230720"/>
              <a:ext cx="20689560" cy="649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(</a:t>
              </a: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عنوان مقاله 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به صورت </a:t>
              </a: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تك­فاصله 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با </a:t>
              </a: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قلم 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cs typeface="0 Titr Bold"/>
                </a:rPr>
                <a:t>تیتر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pt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. </a:t>
              </a: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18</a:t>
              </a: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 پررنگ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----- يک سطر فاصله (تیتر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pt.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 18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ea typeface="0 Titr Bold"/>
                </a:rPr>
                <a:t> پررنگ) ----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نام و نام خانوادگي نويسنده اول، نويسنده دوم</a:t>
              </a:r>
              <a:r>
                <a:rPr b="1" lang="fa-IR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و.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درجه علمي (يا سمت كاري)،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محل كار و آدرس كوتاه نويسنده اول</a:t>
              </a: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(نازنين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pt.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1</a:t>
              </a: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0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ايتاليك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آدرس پست الكترونيك نويسنده اول 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(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Times New Roman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10 pt. Italic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درجه علمي (يا سمت كاري)،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محل كار و آدرس كوتاه نويسنده </a:t>
              </a: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دوم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(نازنين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pt. 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1</a:t>
              </a: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0</a:t>
              </a: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ايتاليك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3497400"/>
                  <a:tab algn="l" pos="6994440"/>
                  <a:tab algn="l" pos="10491840"/>
                </a:tabLst>
              </a:pPr>
              <a:r>
                <a:rPr b="0" i="1" lang="ar-SA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آدرس پست الكترونيك نويسنده </a:t>
              </a:r>
              <a:r>
                <a:rPr b="0" i="1" lang="fa-IR" sz="4000" spc="-1" strike="noStrike">
                  <a:solidFill>
                    <a:srgbClr val="000000"/>
                  </a:solidFill>
                  <a:latin typeface="Arial"/>
                  <a:cs typeface="B Nazanin"/>
                </a:rPr>
                <a:t>دوم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(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Times New Roman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 10 pt. Italic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Arial"/>
                  <a:ea typeface="B Nazani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 Box 42"/>
          <p:cNvSpPr/>
          <p:nvPr/>
        </p:nvSpPr>
        <p:spPr>
          <a:xfrm>
            <a:off x="13839840" y="11293560"/>
            <a:ext cx="1028700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 rtl="1"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چکی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250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627200" y="11514240"/>
            <a:ext cx="1045836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 rtl="1">
              <a:spcBef>
                <a:spcPts val="250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بحث و نتیجه گیر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494000" y="27490680"/>
            <a:ext cx="1045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 rtl="1">
              <a:spcBef>
                <a:spcPts val="12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منابع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3620600" y="19335600"/>
            <a:ext cx="1045872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 rtl="1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مقدم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047600" y="114480"/>
            <a:ext cx="22920480" cy="3860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"/>
          <p:cNvSpPr/>
          <p:nvPr/>
        </p:nvSpPr>
        <p:spPr>
          <a:xfrm>
            <a:off x="13839840" y="26882640"/>
            <a:ext cx="1045836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spAutoFit/>
          </a:bodyPr>
          <a:p>
            <a:pPr algn="just" rtl="1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Titr"/>
              </a:rPr>
              <a:t>روش و یافته ه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0:20:37Z</dcterms:created>
  <dc:creator>www.toil.ir</dc:creator>
  <dc:description/>
  <dc:language>en-US</dc:language>
  <cp:lastModifiedBy>Pajohesh</cp:lastModifiedBy>
  <dcterms:modified xsi:type="dcterms:W3CDTF">2017-05-17T12:12:20Z</dcterms:modified>
  <cp:revision>86</cp:revision>
  <dc:subject/>
  <dc:title>70x100 cm vertical poster template</dc:title>
</cp:coreProperties>
</file>